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gif" ContentType="image/gi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1987560" y="7289640"/>
            <a:ext cx="80913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fenyx.sytes.net/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coliseo"/>
          <p:cNvPicPr/>
          <p:nvPr/>
        </p:nvPicPr>
        <p:blipFill>
          <a:blip r:embed="rId1"/>
          <a:stretch/>
        </p:blipFill>
        <p:spPr>
          <a:xfrm>
            <a:off x="0" y="0"/>
            <a:ext cx="1008072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40880" y="850680"/>
            <a:ext cx="8728200" cy="60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Análisis del problem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Casos de </a:t>
            </a:r>
            <a:r>
              <a:rPr b="0" lang="es-CL" sz="2800" spc="-1" strike="noStrike">
                <a:solidFill>
                  <a:srgbClr val="e6e6e6"/>
                </a:solidFill>
                <a:latin typeface="Times New Roman"/>
              </a:rPr>
              <a:t>us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4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aso 1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Nombre: Creación de un nuevo Juego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Propósito: El jugador desea empezar a jugar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Actor: Jugador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Precondición: Se encuentra en la pantalla inicial del juego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Evento: El jugador presiona el botón “Juego Nuevo”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Poscondición: Se crea un juego nuevo.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Tipo: Manual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40880" y="850680"/>
            <a:ext cx="8728200" cy="60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Análisis del problem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Casos de </a:t>
            </a:r>
            <a:r>
              <a:rPr b="0" lang="es-CL" sz="2800" spc="-1" strike="noStrike">
                <a:solidFill>
                  <a:srgbClr val="e6e6e6"/>
                </a:solidFill>
                <a:latin typeface="Times New Roman"/>
              </a:rPr>
              <a:t>us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4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aso 1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urso normal de eventos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1.    El usuario presiona el botón de “Juego Nuevo”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2.    El sistema responde mostrando la pantalla “Selección de Personajes”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3.    El usuario rellena el nombre del personaje en el panel que dice “héroe”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4.    El usuario selecciona uno de los botones con la imagen de los personajes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5.    El sistema responde creando un personajes con las características seleccionadas (nombre y tipo)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6.    El sistema muestra la pantalla de la primera etapa del juego con el personaje seleccionado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40880" y="850680"/>
            <a:ext cx="8728200" cy="60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Análisis del problem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Casos de </a:t>
            </a:r>
            <a:r>
              <a:rPr b="0" lang="es-CL" sz="2800" spc="-1" strike="noStrike">
                <a:solidFill>
                  <a:srgbClr val="e6e6e6"/>
                </a:solidFill>
                <a:latin typeface="Times New Roman"/>
              </a:rPr>
              <a:t>us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4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aso 1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urso Alternativo de eventos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3a.    El usuario presiona el botón “volver”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4a.    El sistema le responde mostrándole la pantalla inicial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3b.    El usuario selecciona uno de los botones con la imagen de los personajes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4b.     El sistema responde creando un personaje con las característica seleccionada (tipo) y con el nombre por defecto heroe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5.b     El sistema muestra la pantalla de la primera etapa del juego con el personaje seleccionado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40880" y="850680"/>
            <a:ext cx="8728200" cy="60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Análisis del problem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Casos de </a:t>
            </a:r>
            <a:r>
              <a:rPr b="0" lang="es-CL" sz="2800" spc="-1" strike="noStrike">
                <a:solidFill>
                  <a:srgbClr val="e6e6e6"/>
                </a:solidFill>
                <a:latin typeface="Times New Roman"/>
              </a:rPr>
              <a:t>us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4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aso 2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Nombre: Cargar un Juego Previo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Propósito: El jugador desea cargar un juego ya guardado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Actor: Jugador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Precondición: Se encuentra en la pantalla inicial del juego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Evento: El jugador presiona el botón “Cargar Juego”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Poscondición: Se carga el juego antes salvado.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Tipo: Manual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40880" y="850680"/>
            <a:ext cx="8728200" cy="60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Análisis del problem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Casos de </a:t>
            </a:r>
            <a:r>
              <a:rPr b="0" lang="es-CL" sz="2800" spc="-1" strike="noStrike">
                <a:solidFill>
                  <a:srgbClr val="e6e6e6"/>
                </a:solidFill>
                <a:latin typeface="Times New Roman"/>
              </a:rPr>
              <a:t>us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4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aso 2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urso normal de eventos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1.    El usuario presiona el botón de “Cargar Juego”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2.    El sistema responde mostrando la pantalla de “Cargar Personaje”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3.    El usuario presiona el botón “Seleccionar Archivo”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4.    El sistema responde mostrando un menú de navegación por el sistema de archivos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5.    El usuario selecciona un archivo con extensión glf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6.    El usuario presiona el botón “abrir”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7.    El sistema revisa que el archivo sea correcto. (contenido)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8.    Es sistema carga los datos del personaje guardado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9.    El sistema le devuelve al usuario el una pantalla con la etapa inicial mostrando el personaje cargado.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40880" y="850680"/>
            <a:ext cx="8728200" cy="60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Análisis del problem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Casos de </a:t>
            </a:r>
            <a:r>
              <a:rPr b="0" lang="es-CL" sz="2800" spc="-1" strike="noStrike">
                <a:solidFill>
                  <a:srgbClr val="e6e6e6"/>
                </a:solidFill>
                <a:latin typeface="Times New Roman"/>
              </a:rPr>
              <a:t>us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4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aso 2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urso Alternativo de eventos: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4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3a.     El usuario presiona el botón “volver”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4a.    El sistema le responde mostrándole la pantalla inicial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5b.    El usuario presiona el botón “cancelar”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6b.    El sistema le responde mostrando la pantalla “Cargar Personaje”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5c.    El usuario cambia a “mostrar todos los archivos”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6c.    El usuario selecciona un archivo con extensión glf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7c.    El usuario presiona el botón “abrir”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8c.    Es sistema carga los datos del personaje guardado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40880" y="850680"/>
            <a:ext cx="8728200" cy="60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Análisis del problem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66800" indent="-3142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Casos de </a:t>
            </a:r>
            <a:r>
              <a:rPr b="0" lang="es-CL" sz="2800" spc="-1" strike="noStrike">
                <a:solidFill>
                  <a:srgbClr val="e6e6e6"/>
                </a:solidFill>
                <a:latin typeface="Times New Roman"/>
              </a:rPr>
              <a:t>us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4" marL="766800" indent="-3142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aso 2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urso Alternativo de eventos: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4" marL="766800" indent="-3142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9c.    El sistema le devuelve al usuario una pantalla con la etapa inicial mostrando el personaje cargado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5d.    El usuario cambia a “mostrar todos los archivos”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6d.    El usuario “NO” selecciona un archivo con extensión glf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7d.    El usuario presiona el botón “abrir”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8d.    El sistema revisa la extencion 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9d.    El sistema presenta un menú “Error de lectura del archivo”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10d.  El usuario presiona el botón “cerrar”, quedando en el menú “Cargar Personaj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1" marL="766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40880" y="850680"/>
            <a:ext cx="8728200" cy="60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362520" indent="-2718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Análisis del problem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663840" indent="-27216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Casos de </a:t>
            </a:r>
            <a:r>
              <a:rPr b="0" lang="es-CL" sz="2800" spc="-1" strike="noStrike">
                <a:solidFill>
                  <a:srgbClr val="e6e6e6"/>
                </a:solidFill>
                <a:latin typeface="Times New Roman"/>
              </a:rPr>
              <a:t>us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4" marL="663840" indent="-27216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aso 3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Nombre: Guardar Juego Actual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Propósito: El jugador desea guardar el juego actual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Actor: Jugador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Precondición: El jugador debe haber iniciado el juego ya sea por juego nuevo o por un juego cargado.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Evento: El jugador presiona el botón “Cargar Juego”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Poscondición: El juego se salva.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Tipo: Manual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1" marL="663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40880" y="850680"/>
            <a:ext cx="8728200" cy="60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375480" indent="-28152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Análisis del problem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687600" indent="-2818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Casos de </a:t>
            </a:r>
            <a:r>
              <a:rPr b="0" lang="es-CL" sz="2800" spc="-1" strike="noStrike">
                <a:solidFill>
                  <a:srgbClr val="e6e6e6"/>
                </a:solidFill>
                <a:latin typeface="Times New Roman"/>
              </a:rPr>
              <a:t>us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4" marL="687600" indent="-2818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aso 3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urso normal de eventos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1.    El usuario presiona el botón de “Opciones”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2.    El sistema responde mostrando la pantalla de “Opciones”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3.    El usuario presiona el botón “Guardar Juego”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4.    El sistema responde mostrando un menú de navegación por el sistema de archivos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5.    El usuario selecciona un lugar en el sistema de archivos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6.    El usuario ingresa el nombre del archivo en el “textfield” el nombre del archivo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7.    El usuario presiona el botón “guardar”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8.    Es sistema guarda los datos del personaje en el archivo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9.    El sistema devuelve una ventana “Personaje Guardado”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10.   El usuario cierra el menú quedando en la pantalla “Opciones”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1" marL="687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40880" y="850680"/>
            <a:ext cx="8728200" cy="60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Análisis del problem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Casos de </a:t>
            </a:r>
            <a:r>
              <a:rPr b="0" lang="es-CL" sz="2800" spc="-1" strike="noStrike">
                <a:solidFill>
                  <a:srgbClr val="e6e6e6"/>
                </a:solidFill>
                <a:latin typeface="Times New Roman"/>
              </a:rPr>
              <a:t>us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4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aso 3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urso alternativo de eventos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3a.    El presiona el botón “volver”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4a.    Es sistema lo regresa a la pantalla “Durante el Juego”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5b.    El usuario presiona el botón “Cerrar”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5b.    El usuario queda en la pantalla de “Opciones”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6c.    El usuario cambia la extensión a “todos los archivos”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7c.    El usuario ingresa el nombre en el “textfield”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8c.    Se sigue los pasos 8, 9 y 10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8920" y="2422440"/>
            <a:ext cx="532116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Cómo parte la ide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Descripción del problema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e6e6e6"/>
                </a:solidFill>
                <a:latin typeface="Times New Roman"/>
              </a:rPr>
              <a:t>Con la evolucion de los sistemas de entretenimiento, se han podido desarrollar videojuegos de  gran calidad estetica, sin embargo en ocasiones se sacrifican elementos que contribuyen a disfrutar dichos juegos, tales como la mecanica.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42" name="Picture 57" descr="coliseo2"/>
          <p:cNvPicPr/>
          <p:nvPr/>
        </p:nvPicPr>
        <p:blipFill>
          <a:blip r:embed="rId1"/>
          <a:stretch/>
        </p:blipFill>
        <p:spPr>
          <a:xfrm>
            <a:off x="2232000" y="0"/>
            <a:ext cx="5810400" cy="2266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8" descr="C:\Documents and Settings\clarah\Escritorio\Final_Fantasy_XII_Front_Page.jpg"/>
          <p:cNvPicPr/>
          <p:nvPr/>
        </p:nvPicPr>
        <p:blipFill>
          <a:blip r:embed="rId2"/>
          <a:stretch/>
        </p:blipFill>
        <p:spPr>
          <a:xfrm>
            <a:off x="6111720" y="3279600"/>
            <a:ext cx="3746520" cy="26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40880" y="850680"/>
            <a:ext cx="8728200" cy="60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Análisis del problem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19280" indent="-2948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Casos de </a:t>
            </a:r>
            <a:r>
              <a:rPr b="0" lang="es-CL" sz="2800" spc="-1" strike="noStrike">
                <a:solidFill>
                  <a:srgbClr val="e6e6e6"/>
                </a:solidFill>
                <a:latin typeface="Times New Roman"/>
              </a:rPr>
              <a:t>us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4" marL="719280" indent="-2948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aso 4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Nombre: Cerrar juego en march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Propósito: El jugador desea guardar el juego actual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Actor: Jugador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Precondición: El jugador debe estar en “Durante el Juego”.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Evento: El jugador presiona el botón “Cargar Juego”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Poscondición: El juego se cierra.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Tipo: Manual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1" marL="719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40880" y="850680"/>
            <a:ext cx="8728200" cy="60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Análisis del problem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Casos de </a:t>
            </a:r>
            <a:r>
              <a:rPr b="0" lang="es-CL" sz="2800" spc="-1" strike="noStrike">
                <a:solidFill>
                  <a:srgbClr val="e6e6e6"/>
                </a:solidFill>
                <a:latin typeface="Times New Roman"/>
              </a:rPr>
              <a:t>us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4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aso 4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urso normal de eventos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1.    El usuario presiona el botón de “Opciones”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2.    El sistema responde mostrando la pantalla de “Opciones”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3.    El usuario presiona el botón “Salir”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4.    El sistema responde mostrando la pantalla “Inicial”.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Curso Alternativo de eventos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3a. El usuario presiona el botón “volver”.</a:t>
            </a: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Times New Roman"/>
              </a:rPr>
              <a:t>4a. Es sistema lo regresa a la pantalla “Durante el Juego”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ef9f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200" spc="-1" strike="noStrike">
                <a:solidFill>
                  <a:srgbClr val="e6e6e6"/>
                </a:solidFill>
                <a:latin typeface="Times New Roman"/>
              </a:rPr>
              <a:t>Este programa se desarrollo como applet dentro del sitio </a:t>
            </a: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fenyx.sytes.ne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200" spc="-1" strike="noStrike">
                <a:solidFill>
                  <a:srgbClr val="e6e6e6"/>
                </a:solidFill>
                <a:latin typeface="Times New Roman"/>
              </a:rPr>
              <a:t>Dentro del sitio se incluye información adiciona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200" spc="-1" strike="noStrike">
                <a:solidFill>
                  <a:srgbClr val="e6e6e6"/>
                </a:solidFill>
                <a:latin typeface="Times New Roman"/>
              </a:rPr>
              <a:t>El link Jugar da inicio al applet que contiene al juego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Demostración del proyecto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480000" y="1403280"/>
            <a:ext cx="2399040" cy="40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Por su atencion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Muchas Gracia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:\proyecto\mage2.jpg"/>
          <p:cNvPicPr/>
          <p:nvPr/>
        </p:nvPicPr>
        <p:blipFill>
          <a:blip r:embed="rId1"/>
          <a:stretch/>
        </p:blipFill>
        <p:spPr>
          <a:xfrm>
            <a:off x="6040440" y="2136600"/>
            <a:ext cx="3718080" cy="4500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18920" y="2422440"/>
            <a:ext cx="532116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Analisis del problema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e6e6e6"/>
                </a:solidFill>
                <a:latin typeface="Times New Roman"/>
              </a:rPr>
              <a:t>Es por eso que este proyecto se dedico a desarrollar un videojuego centrado en las mecanicas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e6e6e6"/>
                </a:solidFill>
                <a:latin typeface="Times New Roman"/>
              </a:rPr>
              <a:t>Dada su relativa simpleza se eligio la categoria videojuegos de rol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e6e6e6"/>
                </a:solidFill>
                <a:latin typeface="Times New Roman"/>
              </a:rPr>
              <a:t>Antecdente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24000" indent="-287280">
              <a:lnSpc>
                <a:spcPct val="93000"/>
              </a:lnSpc>
              <a:spcAft>
                <a:spcPts val="1137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e6e6e6"/>
                </a:solidFill>
                <a:latin typeface="Times New Roman"/>
              </a:rPr>
              <a:t>Saga Final Fantas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24000" indent="-287280">
              <a:lnSpc>
                <a:spcPct val="93000"/>
              </a:lnSpc>
              <a:spcAft>
                <a:spcPts val="1137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e6e6e6"/>
                </a:solidFill>
                <a:latin typeface="Times New Roman"/>
              </a:rPr>
              <a:t>Saga Breath of Fir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24000" indent="-287280">
              <a:lnSpc>
                <a:spcPct val="93000"/>
              </a:lnSpc>
              <a:spcAft>
                <a:spcPts val="1137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e6e6e6"/>
                </a:solidFill>
                <a:latin typeface="Times New Roman"/>
              </a:rPr>
              <a:t>MMORPG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46" name="Picture 57" descr="coliseo2"/>
          <p:cNvPicPr/>
          <p:nvPr/>
        </p:nvPicPr>
        <p:blipFill>
          <a:blip r:embed="rId2"/>
          <a:stretch/>
        </p:blipFill>
        <p:spPr>
          <a:xfrm>
            <a:off x="2232000" y="0"/>
            <a:ext cx="581040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41240" y="1963800"/>
            <a:ext cx="62992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Análisis del problem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e6e6e6"/>
                </a:solidFill>
                <a:latin typeface="Times New Roman"/>
              </a:rPr>
              <a:t>Debido a razones planificacion se decidio crear un unico personaje controlable, sin embargo este puede ser elegido de entre tres clases disitntas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e6e6e6"/>
                </a:solidFill>
                <a:latin typeface="Times New Roman"/>
              </a:rPr>
              <a:t>Cada una de estas clases tiene distintos </a:t>
            </a:r>
            <a:r>
              <a:rPr b="0" lang="es-ES_tradnl" sz="2800" spc="-1" strike="noStrike">
                <a:solidFill>
                  <a:srgbClr val="e6e6e6"/>
                </a:solidFill>
                <a:latin typeface="Times New Roman"/>
              </a:rPr>
              <a:t>atributos y habilidades especiales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48" name="Picture 57" descr="coliseo2"/>
          <p:cNvPicPr/>
          <p:nvPr/>
        </p:nvPicPr>
        <p:blipFill>
          <a:blip r:embed="rId1"/>
          <a:stretch/>
        </p:blipFill>
        <p:spPr>
          <a:xfrm>
            <a:off x="2232000" y="0"/>
            <a:ext cx="5810400" cy="226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F:\malemodel1c.png"/>
          <p:cNvPicPr/>
          <p:nvPr/>
        </p:nvPicPr>
        <p:blipFill>
          <a:blip r:embed="rId2"/>
          <a:stretch/>
        </p:blipFill>
        <p:spPr>
          <a:xfrm>
            <a:off x="7897680" y="2208240"/>
            <a:ext cx="125568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41240" y="1963800"/>
            <a:ext cx="62992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Análisis del problem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e6e6e6"/>
                </a:solidFill>
                <a:latin typeface="Times New Roman"/>
              </a:rPr>
              <a:t>Guerrero. Altos Hp, ataque y defensa. Especial Golpe poderoso ( hace mas daño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e6e6e6"/>
                </a:solidFill>
                <a:latin typeface="Times New Roman"/>
              </a:rPr>
              <a:t>Ladron Alto ataque pobre en defensa. Especial ataque doble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e6e6e6"/>
                </a:solidFill>
                <a:latin typeface="Times New Roman"/>
              </a:rPr>
              <a:t>Maga Bajo ataque y defensa. Especial hechizo (ignora defensas)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1" name="Picture 57" descr="coliseo2"/>
          <p:cNvPicPr/>
          <p:nvPr/>
        </p:nvPicPr>
        <p:blipFill>
          <a:blip r:embed="rId1"/>
          <a:stretch/>
        </p:blipFill>
        <p:spPr>
          <a:xfrm>
            <a:off x="2232000" y="0"/>
            <a:ext cx="5810400" cy="22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F:\femalemodel1c.png"/>
          <p:cNvPicPr/>
          <p:nvPr/>
        </p:nvPicPr>
        <p:blipFill>
          <a:blip r:embed="rId2"/>
          <a:stretch/>
        </p:blipFill>
        <p:spPr>
          <a:xfrm>
            <a:off x="7397640" y="2708280"/>
            <a:ext cx="192420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41240" y="1963800"/>
            <a:ext cx="62992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Análisis del problem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e6e6e6"/>
                </a:solidFill>
                <a:latin typeface="Times New Roman"/>
              </a:rPr>
              <a:t>Debido al alcance del proyecto ,  los encuentros aleatorios fueron remplazado por combates en el coliseo, el cual le da titulo a este proyect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-324000">
              <a:lnSpc>
                <a:spcPct val="93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e6e6e6"/>
                </a:solidFill>
                <a:latin typeface="Times New Roman"/>
              </a:rPr>
              <a:t>Ademas el movimiento por </a:t>
            </a:r>
            <a:r>
              <a:rPr b="0" lang="es-ES_tradnl" sz="2800" spc="-1" strike="noStrike">
                <a:solidFill>
                  <a:srgbClr val="e6e6e6"/>
                </a:solidFill>
                <a:latin typeface="Times New Roman"/>
              </a:rPr>
              <a:t>“</a:t>
            </a:r>
            <a:r>
              <a:rPr b="0" lang="fi-FI" sz="2800" spc="-1" strike="noStrike">
                <a:solidFill>
                  <a:srgbClr val="e6e6e6"/>
                </a:solidFill>
                <a:latin typeface="Times New Roman"/>
              </a:rPr>
              <a:t>tiles” fue reemplazado por control mediante mouse. 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790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4" name="Picture 57" descr="coliseo2"/>
          <p:cNvPicPr/>
          <p:nvPr/>
        </p:nvPicPr>
        <p:blipFill>
          <a:blip r:embed="rId1"/>
          <a:stretch/>
        </p:blipFill>
        <p:spPr>
          <a:xfrm>
            <a:off x="2232000" y="0"/>
            <a:ext cx="5810400" cy="2266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:\proyecto\sprites\walker.gif"/>
          <p:cNvPicPr/>
          <p:nvPr/>
        </p:nvPicPr>
        <p:blipFill>
          <a:blip r:embed="rId2"/>
          <a:stretch/>
        </p:blipFill>
        <p:spPr>
          <a:xfrm>
            <a:off x="8040600" y="2708280"/>
            <a:ext cx="571680" cy="81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F:\proyecto\sprites\npc3.gif"/>
          <p:cNvPicPr/>
          <p:nvPr/>
        </p:nvPicPr>
        <p:blipFill>
          <a:blip r:embed="rId3"/>
          <a:stretch/>
        </p:blipFill>
        <p:spPr>
          <a:xfrm>
            <a:off x="8720280" y="3772080"/>
            <a:ext cx="88560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7" descr="coliseo2"/>
          <p:cNvPicPr/>
          <p:nvPr/>
        </p:nvPicPr>
        <p:blipFill>
          <a:blip r:embed="rId2"/>
          <a:stretch/>
        </p:blipFill>
        <p:spPr>
          <a:xfrm>
            <a:off x="7632720" y="6156360"/>
            <a:ext cx="208764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32000" y="684360"/>
            <a:ext cx="5533920" cy="5314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7" descr="coliseo2"/>
          <p:cNvPicPr/>
          <p:nvPr/>
        </p:nvPicPr>
        <p:blipFill>
          <a:blip r:embed="rId2"/>
          <a:stretch/>
        </p:blipFill>
        <p:spPr>
          <a:xfrm>
            <a:off x="6553080" y="5724360"/>
            <a:ext cx="352764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32000" y="611280"/>
            <a:ext cx="5543640" cy="530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7" descr="coliseo2"/>
          <p:cNvPicPr/>
          <p:nvPr/>
        </p:nvPicPr>
        <p:blipFill>
          <a:blip r:embed="rId2"/>
          <a:stretch/>
        </p:blipFill>
        <p:spPr>
          <a:xfrm>
            <a:off x="6553080" y="5724360"/>
            <a:ext cx="352764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njamín</dc:creator>
  <dc:description/>
  <dc:language>en-US</dc:language>
  <cp:lastModifiedBy>Juan Ferrada A.</cp:lastModifiedBy>
  <dcterms:modified xsi:type="dcterms:W3CDTF">2009-07-01T16:11:44Z</dcterms:modified>
  <cp:revision>16</cp:revision>
  <dc:subject/>
  <dc:title>Como partió la idea Descripción del problema: Muchas veces se posee una gran cantidad de archivos, que hacen alusión a otros archivos, por ejemplo cuando se cita una ley, o una demostración matemática.El trabajar con esta gran cantidad de archivos, se vuelve engorroso porque hay que buscar archivos dentro del pc.</dc:title>
</cp:coreProperties>
</file>