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5E9-6C5C-40A0-A635-72631F8A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5AA-AF19-420E-96FE-FA4BB813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ABB-8827-492F-80D7-0C978F33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A9C-D53D-411E-98E9-BC935E78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BF4E-18C1-4365-9B9A-1984E66F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FD7D-A319-4D36-AF0F-71DBBC61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BF7E-BDDC-4CA6-8226-41A90A53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02F8-1A30-464D-A025-D46B0959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9CC0-46B2-4B44-AB1E-DD762E74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AC61-4D48-4241-BF14-3A20AB92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89A6-75A9-4DE4-8D9A-2E5139C8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370-2764-420C-A1C0-38821876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29EC-110C-4B7D-B1A3-EFCD74B3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1ACF-D00F-43F3-BE0C-37F4443E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030C-6300-4B23-93A4-83C02919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3A09-02A2-451D-9E91-245FB2B7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13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85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057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13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85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C6B6-A9C1-4771-B586-AE3B973A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EAE-FA5B-4E46-9354-E0A8564F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E80-3047-4A71-8416-66FE0D2E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832-055E-47B0-940C-79FD989D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286-928E-4E3D-A61F-F761B2A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F7C-F1D7-4C94-8B4F-198C29EB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202-6507-4199-95EC-B2207AD7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95C-C8BB-4CFB-92C2-9164FE29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C1B0-3EE8-4FEB-AB1F-E4F5938D193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5B94-1D48-4C9F-870F-5E06E0EA36E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SOURCES/region.smi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SOURCES/overlay_zindex.smil" TargetMode="Externa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SOURCES/fit_fill.smil" TargetMode="External"/><Relationship Id="rId2" Type="http://schemas.openxmlformats.org/officeDocument/2006/relationships/hyperlink" Target="file:///SOURCES/fit_fill.smil" TargetMode="External"/><Relationship Id="rId3" Type="http://schemas.openxmlformats.org/officeDocument/2006/relationships/hyperlink" Target="file:///SOURCES/fit_fill.smil" TargetMode="External"/><Relationship Id="rId4" Type="http://schemas.openxmlformats.org/officeDocument/2006/relationships/hyperlink" Target="file:///SOURCES/fit_fill.smil" TargetMode="External"/><Relationship Id="rId5" Type="http://schemas.openxmlformats.org/officeDocument/2006/relationships/hyperlink" Target="file:///SOURCES/fit_fill.smil" TargetMode="External"/><Relationship Id="rId6" Type="http://schemas.openxmlformats.org/officeDocument/2006/relationships/hyperlink" Target="file:///SOURCES/fit_fill.smil" TargetMode="Externa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SMI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nchronized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ltimedia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ntegration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núnciese SM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57200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La entrada &lt;img&gt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1676520"/>
            <a:ext cx="723888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usa la entrada &lt;img&gt;, para insertar una figura. Esta apunta a la entrada &lt;regio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whit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”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75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5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alt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334120"/>
            <a:ext cx="1143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1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2362320"/>
            <a:ext cx="6782040" cy="441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osicionamiento Relativ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02360" y="1905120"/>
            <a:ext cx="703800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ambién se pueden especificar posiciones relativas!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whit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50%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40%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alt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YO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438280"/>
            <a:ext cx="701028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25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uando dos regiones se junt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mos visto como poner elementos en la ventan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Que pasa cuando estas se traslap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Z -INDEX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con mayor z-index, se muestra adelante. Si tienen igual z-index, se muestran en orden una sobre ot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Z-INDEX (ejemplo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1984320"/>
            <a:ext cx="7696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”black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region_1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5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5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15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15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z-index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2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region_2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25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25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15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150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z-index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1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par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texto1.gif"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 region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region_1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/&gt;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texto2.gif"</a:t>
            </a:r>
            <a:r>
              <a:rPr b="1" lang="es-ES_tradnl" sz="1600" spc="-1" strike="noStrike">
                <a:solidFill>
                  <a:srgbClr val="008080"/>
                </a:solidFill>
                <a:latin typeface="Courier New"/>
              </a:rPr>
              <a:t> region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1600" spc="-1" strike="noStrike">
                <a:solidFill>
                  <a:srgbClr val="ff00ff"/>
                </a:solidFill>
                <a:latin typeface="Courier New"/>
              </a:rPr>
              <a:t>"region_2"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par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16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16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981080"/>
            <a:ext cx="7010640" cy="4496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105520"/>
            <a:ext cx="144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1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mágenes pero también..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81080" y="2133720"/>
          <a:ext cx="604368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604368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o adaptar los contenidos al áre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ria fantástico si el área fuese siempre del mismo porte que los contenido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Cómo adaptarlo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ATRIBUTO fit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mplemente en &lt;region&gt;, añadir fit=“(fill)|(meet)|(slice)|(scroll)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09680"/>
            <a:ext cx="12193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1"/>
              </a:rPr>
              <a:t>Ejemplo </a:t>
            </a: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2"/>
              </a:rPr>
              <a:t>f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048120"/>
            <a:ext cx="12193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3"/>
              </a:rPr>
              <a:t> </a:t>
            </a: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4"/>
              </a:rPr>
              <a:t>me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886200"/>
            <a:ext cx="12193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5"/>
              </a:rPr>
              <a:t> </a:t>
            </a:r>
            <a:r>
              <a:rPr b="0" lang="es-ES_tradnl" sz="2000" spc="-1" strike="noStrike" u="sng">
                <a:solidFill>
                  <a:srgbClr val="008000"/>
                </a:solidFill>
                <a:uFillTx/>
                <a:latin typeface="Tahoma"/>
                <a:hlinkClick r:id="rId6"/>
              </a:rPr>
              <a:t>sl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7242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 scr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Sincron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MIL puede sincronizar eventos, se pue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gregar parámetros de tiemp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er muchos contenidos uno tras otr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er muchos contenidos en parale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La cuarta dimensión “TIEMPO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057400" y="4114800"/>
          <a:ext cx="5538960" cy="23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114800"/>
                    <a:ext cx="553896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981080" y="2133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Queremos hacer aparecer “rodrigo.gif” durante 6 segun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odrigo.gif” durante 6[s]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1905120"/>
            <a:ext cx="70102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gregando el parámetro dur, e igualandolo a “6s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whit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75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5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al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du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6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2438280"/>
            <a:ext cx="68580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50292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morar un conteni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86000" y="4191120"/>
          <a:ext cx="544824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91120"/>
                    <a:ext cx="54482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133720" y="2057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Queremos esperar 2 segundos, entonces mostrar “rodrigo.gif” y termin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¿Que se puede hacer con SMIL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ner elementos multimedia donde uno quiera en la pantall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ncronizar dichos elemento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plegar los elementos según los usuarios finales (bit rate, idioma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El parámetro “begin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105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2960" y="1752480"/>
            <a:ext cx="703800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añade begin="2s" en la sección &lt;img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whit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75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5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al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du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6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egi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2209680"/>
            <a:ext cx="7086600" cy="441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Secuenci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acer que “rodrigo.gif”, aparezca por 6 segundo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erar 1 segun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que “rodrigo2.gif”, aparezca por 5 segun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828800" y="4786200"/>
          <a:ext cx="708660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786200"/>
                    <a:ext cx="708660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La entrada &lt;seq&gt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9810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entrada &lt;seq&gt; define una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ecuencia.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s hijos se ejecutan uno tras o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94360" y="2743200"/>
            <a:ext cx="73425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eq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al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du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6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2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al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 2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du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4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egi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1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eq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2743200"/>
            <a:ext cx="716256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ntenidos en paralel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90920" y="4114800"/>
          <a:ext cx="510516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4114800"/>
                    <a:ext cx="510516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752480" y="213372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se pueden mostrar contenidos en paralelo, como se muestra a continu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La entrada &lt;par&gt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044800" y="2209680"/>
            <a:ext cx="62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entrada &lt;par&gt; hace que sus hijos se ejecuten en paral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5520" y="3048120"/>
            <a:ext cx="5819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pa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al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du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6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img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src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2.gif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al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YO 2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du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5s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pa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895480"/>
            <a:ext cx="6172200" cy="297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5105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ff66"/>
                </a:solidFill>
                <a:latin typeface="Tahoma"/>
              </a:rPr>
              <a:t>¡¡El</a:t>
            </a:r>
            <a:r>
              <a:rPr b="0" lang="es-ES_tradnl" sz="6000" spc="-1" strike="noStrike">
                <a:solidFill>
                  <a:srgbClr val="ffffff"/>
                </a:solidFill>
                <a:latin typeface="Tahoma"/>
              </a:rPr>
              <a:t> desafío esta abierto!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www.rea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Cómo escribir en SMI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necesita un editor de texto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 se conoce la sintaxis de HTML,  se conoce la sintaxis de SMIL, pero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MIL es sensible a las mayúscula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s entradas deben ser termina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rimer programa SMI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057400"/>
            <a:ext cx="7238880" cy="375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meta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name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copyright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conten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nombr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00ff"/>
                </a:solidFill>
                <a:latin typeface="Courier New"/>
              </a:rPr>
              <a:t>&lt;!-- entradas de layout--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ff"/>
                </a:solidFill>
                <a:latin typeface="Courier New"/>
              </a:rPr>
              <a:t>&lt;!-- entradas de sincronización y contenido multimedia --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6095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quí vemos la semejanza con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Detalle del códig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752480"/>
            <a:ext cx="7162560" cy="53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código debe empezar con &lt;smil&gt; y terminar con&lt;/smil&gt;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[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gramas SMIL tienen dos partes: head y body. Los cuales deben tener a &lt;smil&gt; como pad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[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[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209680"/>
            <a:ext cx="6858000" cy="106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3886200"/>
            <a:ext cx="693396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Se puede terminar con “/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30600" y="2041560"/>
            <a:ext cx="6885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gunas entradas como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eta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ueden terminar co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“/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[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meta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name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copyright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conten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nombr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[...]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quí se verán algunas entradas com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veces escritas &lt;entrada&gt; ... &lt;/entrada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veces escritas &lt;entrada /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438280"/>
            <a:ext cx="693396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Sección &lt;layout&gt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981080"/>
            <a:ext cx="75438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odo lo concerniente a la forma, incluida la ventana, es guardado entre las entradas  &lt;layout&gt; y &lt;/layout&gt; dentro del head, como se muestra a continu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00ff"/>
                </a:solidFill>
                <a:latin typeface="Courier New"/>
              </a:rPr>
              <a:t>&lt;!-- layout tags --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[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3352680"/>
            <a:ext cx="7162560" cy="32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La ventan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81080"/>
            <a:ext cx="75438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uede setear el alto y el ancho de la ventana, donde las presentaciones serán vistas. El siguiente ejemplo, crea una ventana con 300x200 pixeles de dimens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whit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body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smil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048120"/>
            <a:ext cx="723888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La reg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1981080"/>
            <a:ext cx="7010280" cy="60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ara mostrar las regiones, mejor un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mos a insertar el icono “rodrigo.gif” a 75 pixeles del borde izquierdo y a 50 pixeles del borde superi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saremos la entrada &lt;region&gt;, para posicionar nuestro icon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oot-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20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background-color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white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region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i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”rodrigo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lef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75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top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50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width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Courier New"/>
              </a:rPr>
              <a:t>heigh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=</a:t>
            </a:r>
            <a:r>
              <a:rPr b="0" lang="es-ES_tradnl" sz="2000" spc="-1" strike="noStrike">
                <a:solidFill>
                  <a:srgbClr val="ff00ff"/>
                </a:solidFill>
                <a:latin typeface="Courier New"/>
              </a:rPr>
              <a:t>"32"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/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layout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lt;</a:t>
            </a:r>
            <a:r>
              <a:rPr b="1" lang="es-ES_tradnl" sz="2000" spc="-1" strike="noStrike">
                <a:solidFill>
                  <a:srgbClr val="808080"/>
                </a:solidFill>
                <a:latin typeface="Courier New"/>
              </a:rPr>
              <a:t>head</a:t>
            </a:r>
            <a:r>
              <a:rPr b="0" lang="es-ES_tradnl" sz="2000" spc="-1" strike="noStrike">
                <a:solidFill>
                  <a:srgbClr val="00808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037040"/>
            <a:ext cx="6402240" cy="2516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02:40:28Z</dcterms:created>
  <dc:creator>Rodrigo P‚rez</dc:creator>
  <dc:description/>
  <dc:language>en-US</dc:language>
  <cp:lastModifiedBy>rapk</cp:lastModifiedBy>
  <dcterms:modified xsi:type="dcterms:W3CDTF">2001-11-16T22:07:35Z</dcterms:modified>
  <cp:revision>16</cp:revision>
  <dc:subject/>
  <dc:title>Seguridad en Redes</dc:title>
</cp:coreProperties>
</file>